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D1E-E81F-4EC5-9E60-E2073DAD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AB1-9166-4CD2-8A1D-70CF2392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7A5-AB08-4644-AC40-FEAB377D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F61-D42E-42A1-BFE0-BD00DF97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B5E-E2D5-411B-B2ED-BFC6A2E0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F06-E854-49F4-A49C-65852CBC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350-B15F-4554-8E8D-B0DC476A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9253-44ED-4306-AE4B-9648C00C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B11-CA83-434B-8677-0E4B3AB9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B6E-C461-49EA-A9B5-8851493C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DFD-BA00-41F4-954C-C3851728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EFB-967C-48AE-832A-25F54A8C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A358-73D9-47DB-8BC0-C5124C3F9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6 + 1 Traits of Good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57480" y="1600200"/>
            <a:ext cx="3027240" cy="452592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Broadway"/>
              </a:rPr>
              <a:t>ID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50292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deas are information which can come from the writer’s own experiences or observations, research, reading, or talking with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419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80160" y="2286000"/>
            <a:ext cx="21445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33520"/>
            <a:ext cx="9144000" cy="52146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nsidering ideas for your writing, 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have a solid, main idea that is clear and easy to ident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need interesting, relevant, accurate details that expand or clarify your main idea and bring it to life.  In narrative writing, this is done through effective description and imag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message must be clear and easily underst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left out unneeded information.  Every detail that you have included contributes to the pi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is the structure of a piece of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ucture you choose should enhance your ideas and make your piece easier to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gives your writing direction and helps your reader move through your ide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S TO STRONG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tful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, effective, and purposeful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pacing – speed up and slow down to help your readers determine what is important and what is second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conclusion – wraps your piece up and leaves your reader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0" y="2666880"/>
            <a:ext cx="11844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is the writer’s personality and individuality translated onto the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is the individual style of the wr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shows that the writer cares about his or her audience and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less writing is lifeless writ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15541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choice is the careful selection of words that fit audience, topic, and 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choice includes energetic verbs, specific nouns, effective adjectives and adverbs.  This creates vivid images and clear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and precise words make great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in sentence length and style adds interest to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should flow smoothly when read a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(if used) is effective and authen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1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 refers to the mechanical correctness of the piece:  spelling, grammar, usage, paragraphing, use of capitals, punc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 also refers to the style of a piece of writing (example:  how to write a business letter or a formal essa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324480" y="1905120"/>
            <a:ext cx="28195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1:15:56Z</dcterms:created>
  <dc:creator>nbdoe</dc:creator>
  <dc:description/>
  <dc:language>en-US</dc:language>
  <cp:lastModifiedBy>nbdoe</cp:lastModifiedBy>
  <dcterms:modified xsi:type="dcterms:W3CDTF">2007-09-12T19:11:05Z</dcterms:modified>
  <cp:revision>10</cp:revision>
  <dc:subject/>
  <dc:title>6 + 1 Traits of Good Writing</dc:title>
</cp:coreProperties>
</file>